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2B16-4684-450A-ADAF-CB7213E7D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footage.shutterstock.com/clip-2456567-stock-footage-spring-green-plants-in-the-foregroun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aileybio.com/plogger/?level=picture&amp;id=6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eaturepics.com/online/Green-Plants-Background-1387747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isglory.com/photos2/Green%20Leav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bc.co.uk/bitesize/standard/biology/world_of_plants/making_food/revision/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allpaperswide.com/bamboo_stems-wallpap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howstuffworks.com/dictionary/plant-terms/stem-info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.unm.edu/ccouncil/Biology_203/Summaries/FloweringPlant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catedemeter.wordpress.com/2011/10/15/grounding-in-autumn-what-a-witch-does/root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hhe.com/biosci/esp/2001_gbio/folder_structure/pl/m2/s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from: http://answers.tutorvista.com/1087391/what-is-the-difference-of-endodermis-of-monocot-root-and-dicot-roo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eb.dbs.umt.edu/dbs/courses/sci226/lab4_plantsanimal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2.yk.psu.edu/~sg3/ist311/games/team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logster.com/brandonl13/the-plant-body/g-6lllm92mrphbrfs5t045pa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wc2012.wikispaces.com/nonvascular+seedless+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biologyintro2life.blogspot.ca/2010/08/multicellular-organization-plants_18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1BB-7171-4D47-ADE1-49EE48C9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3B7-6348-41BF-A006-3A7F0677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9B6D-E563-4664-8BED-48FC3E83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0E1C-0C90-42F6-A10C-18EC53CF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4308-D62A-4B6E-81E1-F3FCDF29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4BF-E0DC-49FA-9FC2-D034170C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D92-6D88-4494-8DB5-31607B80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AF3-77F6-4BC2-83B6-F9739A4D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81A-92BB-48BB-BDC0-CC25D09F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014-6DF0-439C-83D7-041170D4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6164-0ECD-4B89-95D0-8CFC406F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CB0-F5E5-4059-9D25-5AD3E3E4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49B8-F51D-4BC9-8FCD-66CE98AE8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: Anatomy, Grow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istematic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ly dividing, undifferentiate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specialize into different cells,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1677960"/>
            <a:ext cx="43434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t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ves, stems, r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site of photosynthesis in most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 exchange between interior of plant and extern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0" y="2055960"/>
            <a:ext cx="42670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52560" y="609480"/>
            <a:ext cx="7237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vascular tissue in leaves to vascular tissue i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other structures o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343400" y="2558880"/>
            <a:ext cx="45720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baceous vs. Wo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11280" y="1981080"/>
            <a:ext cx="4319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cot vs. Eudicot 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1932120"/>
            <a:ext cx="853416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hor plant and keep it up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 water &amp; nutrients from the soil or 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2614680"/>
            <a:ext cx="42674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912960"/>
            <a:ext cx="777240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2293920"/>
            <a:ext cx="3886200" cy="2498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0" y="1771560"/>
            <a:ext cx="38862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from Diversit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19200" y="1676520"/>
            <a:ext cx="6103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cots have seeds with 1 cotyle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ots have seeds with 2 cotyled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67080" y="224784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mal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ar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stematic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0" y="2682720"/>
            <a:ext cx="4191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mal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most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rmis, perid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v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241920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44560" y="1523880"/>
            <a:ext cx="7607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Tissue - Xy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ck-walled cells, dead at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heids &amp; vesse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water &amp; sol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191120" y="1974960"/>
            <a:ext cx="47242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Tissue - Ph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-walled living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ve cells, sieve tube elements, companion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91120" y="1974960"/>
            <a:ext cx="47242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nd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chyma, collenchyma, sclerenchy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growth &amp; development; store sugars; support &amp; protect plant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1746360"/>
            <a:ext cx="84582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13:46:10Z</dcterms:created>
  <dc:creator>rubina khan</dc:creator>
  <dc:description/>
  <dc:language>en-US</dc:language>
  <cp:lastModifiedBy>rubina khan</cp:lastModifiedBy>
  <dcterms:modified xsi:type="dcterms:W3CDTF">2013-05-30T14:54:21Z</dcterms:modified>
  <cp:revision>46</cp:revision>
  <dc:subject/>
  <dc:title>PowerPoint Presentation</dc:title>
</cp:coreProperties>
</file>